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A06-FB01-41E4-BEE6-103D00C8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5C4-C981-40EE-8FE9-AA5FECE4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AF6-E217-445E-9112-3ABBE5A3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579-367D-4236-903F-E6AF7773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F92-AFDB-4129-8656-05D1F9AF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B32-C449-4FF2-BC8B-8FF929A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68F-7B58-4CD0-AAB1-6093D667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C6C-CD44-4AF1-AFDC-1C7ADA25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1A7-CAE6-4356-970F-5EB0A131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B57-15A6-4878-97F6-B3396735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198-A976-4D94-AAC9-1F29BFAB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780-37E8-4C02-A452-201F2188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2901-0395-4F10-A07E-A6C724CB2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T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odya Sergiievsk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a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57400" y="1219320"/>
          <a:ext cx="396252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19320"/>
                    <a:ext cx="39625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095880" y="2209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: OW-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5181480" y="18284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560" y="2286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1.9e9 Pa = 19102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429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3733920"/>
          <a:ext cx="2889360" cy="97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28893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20400" y="495288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3e9 Pa = 30479 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81480" y="3886200"/>
          <a:ext cx="127980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886200"/>
                    <a:ext cx="12798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4120" y="4800600"/>
            <a:ext cx="2819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Oxy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a=3.16 Angs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ilon = 0.15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face tension and Tolman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114800" cy="304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152388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C=109.9 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=78.9 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 = 74.8 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/Air 25C: 71.9 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828800" y="5181480"/>
          <a:ext cx="181440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5181480"/>
                    <a:ext cx="1814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133720" y="4419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ma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276360" y="48006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876920" y="4114800"/>
          <a:ext cx="2198520" cy="92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114800"/>
                    <a:ext cx="21985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48320" y="5486400"/>
          <a:ext cx="295596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5486400"/>
                    <a:ext cx="29559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man length in S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360" y="1447920"/>
          <a:ext cx="628632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47920"/>
                    <a:ext cx="62863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76720" y="2286000"/>
          <a:ext cx="419076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286000"/>
                    <a:ext cx="41907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295280" y="2971800"/>
          <a:ext cx="250524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971800"/>
                    <a:ext cx="25052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371600" y="3733920"/>
          <a:ext cx="3578400" cy="46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733920"/>
                    <a:ext cx="357840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-N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0" y="3809880"/>
            <a:ext cx="8991720" cy="101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9372600" cy="1597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at-Ha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4913" t="5183" r="7616" b="-1022"/>
          <a:stretch/>
        </p:blipFill>
        <p:spPr>
          <a:xfrm>
            <a:off x="609480" y="12193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6280" y="2362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4648320"/>
            <a:ext cx="6781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0:49:24Z</dcterms:created>
  <dc:creator>voovrat</dc:creator>
  <dc:description/>
  <dc:language>en-US</dc:language>
  <cp:lastModifiedBy>voovrat</cp:lastModifiedBy>
  <dcterms:modified xsi:type="dcterms:W3CDTF">2010-01-25T08:53:24Z</dcterms:modified>
  <cp:revision>6</cp:revision>
  <dc:subject/>
  <dc:title>SPT calculations</dc:title>
</cp:coreProperties>
</file>